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F425-2D31-4033-BF73-836F950B7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689D-B335-44FC-83AD-FC96D3825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74A0-4BB7-446D-8A29-E8822FC3C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666F-5F7B-4ACA-9393-17CF1897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BA76-2D1D-4337-B843-B706EFDB3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B65D-99BD-4ABB-B34F-6044B266B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2BC1-6684-41ED-AFB0-CDFB3814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7E0C-D881-4A8F-818C-05D2B1DD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C568-2614-4024-A380-F769A6C2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60AE-7D2C-46C7-A2D4-810DCA7A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9A86-58F4-4481-AAF3-A15D24B4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88A4-CDCF-44E2-B364-56DBF1FA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8DF1-F750-44DF-B937-882020C0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D99E-A50E-4B42-AB27-3E7BFFFF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6EE5-9C2E-4072-8617-A070AB9D7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yat Hussein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ola mi amigas! ¿Qué quieres? ¿De donde e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7242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5627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numbre es Ayat. Vivo en New York. Yo tengo catorce años. Tengo dos hermanos, una hermana y un hermano. Yo soy bonita. Estoy feliz y enerjica. Adios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212760" y="5029200"/>
            <a:ext cx="641160" cy="933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950000"/>
            <a:ext cx="536760" cy="78552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334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864400"/>
            <a:ext cx="543240" cy="78552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102280"/>
            <a:ext cx="439560" cy="63324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334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80988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743200" y="3276720"/>
            <a:ext cx="380988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oy de donde Mexico. ¿Cuánto años tiene ella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09880" cy="6858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uenos dias! Soy quiero dulces! Soy de donde Hol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dios!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7913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2"/>
          <p:cNvSpPr/>
          <p:nvPr/>
        </p:nvSpPr>
        <p:spPr>
          <a:xfrm>
            <a:off x="790560" y="632448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5T14:55:58Z</dcterms:modified>
  <cp:revision>106</cp:revision>
  <dc:subject/>
  <dc:title>Profile</dc:title>
</cp:coreProperties>
</file>